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CA8-9189-4586-8BDF-2574B3C3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FA4-21DE-47DF-8E20-4F68DED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9A4-73EA-4A11-9E28-75E83B96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572-4783-4D2A-8D56-C8974B4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D6B-7F1D-417B-B836-25A20BD9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BF9-3F5B-4ADB-957F-14BC1425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F76-60DD-463B-8A33-905BED86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D2B-9AF4-4537-B9EC-00778BD4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299-5D86-4C2A-850A-BF8EF9E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E4E-47D4-474E-8C3F-B03F96B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FE6-D284-45CD-9472-08C9323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5C6-0628-46A9-8FA0-F90F2BD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9144-8D1E-4C86-B95A-DFFD2B1C21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O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455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84652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βρααμ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(1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υιδ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αββι (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3003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63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en, 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260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875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57240" y="2255760"/>
            <a:ext cx="4572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ραηλ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ωσηφ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916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000760" y="2443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00760" y="3038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000760" y="36813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000760" y="430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5:16:02Z</dcterms:created>
  <dc:creator>Sarah</dc:creator>
  <dc:description/>
  <dc:language>en-US</dc:language>
  <cp:lastModifiedBy>Sarah</cp:lastModifiedBy>
  <dcterms:modified xsi:type="dcterms:W3CDTF">2009-06-29T09:31:23Z</dcterms:modified>
  <cp:revision>13</cp:revision>
  <dc:subject/>
  <dc:title>Slide 1</dc:title>
</cp:coreProperties>
</file>